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828-138F-4CDD-91AF-77C3012A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9A2-804D-4D92-99D9-75B856D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822-20BC-4E95-9165-B7E734E3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978-5736-4025-B075-82121335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A57-2F3D-4A7D-9DE5-1960BC5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DD0D-880D-4D1D-B39E-CC02FEB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B1D7-4963-40C4-9562-E9A35FF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2462-8343-428D-B7E0-6CBC00E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1152-4500-44EC-AA45-6F0C983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5FF-2E2C-4C5A-80D3-6F5E5963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0107-7507-4DE8-8BFB-F5B8828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104-0D14-4F93-A359-E804D533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DBA-F86F-4F32-8194-E467567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4BA0-DE03-498C-9D7D-6872496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D732-096D-4669-AE54-28FB33E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0F24-1561-443B-A0AC-97242526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996C-0E76-4D2B-ABD4-4CBC2A0F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579-6C29-448E-B8ED-5355E81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C40-21F8-4609-95B4-97DCB78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B40-77E7-4DA9-AFA4-4579B578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9A0-CD8F-4ECC-AEE5-7A36642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980-081D-48CA-BCF3-DA794959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8CB-6304-4040-BA0E-27521AF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D7D-11B0-49EB-BC31-7733B02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2FE-DA91-4FEB-AE50-D4770BE1EED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39D0-DAFF-48AB-962F-204DFC5C5BD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Ne reprezinta ceea ce spunem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5840" y="2540160"/>
            <a:ext cx="2575080" cy="26143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4343400" y="1371600"/>
            <a:ext cx="4300200" cy="2561400"/>
            <a:chOff x="4343400" y="1371600"/>
            <a:chExt cx="4300200" cy="2561400"/>
          </a:xfrm>
        </p:grpSpPr>
        <p:cxnSp>
          <p:nvCxnSpPr>
            <p:cNvPr id="214" name="_s4113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6989760" y="1899360"/>
              <a:ext cx="512640" cy="150552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7" name="_s4112"/>
            <p:cNvCxnSpPr>
              <a:stCxn id="218" idx="0"/>
              <a:endCxn id="216" idx="2"/>
            </p:cNvCxnSpPr>
            <p:nvPr/>
          </p:nvCxnSpPr>
          <p:spPr>
            <a:xfrm rot="16200000">
              <a:off x="6237360" y="2652120"/>
              <a:ext cx="512640" cy="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19" name="_s4111"/>
            <p:cNvCxnSpPr>
              <a:stCxn id="220" idx="0"/>
              <a:endCxn id="216" idx="2"/>
            </p:cNvCxnSpPr>
            <p:nvPr/>
          </p:nvCxnSpPr>
          <p:spPr>
            <a:xfrm flipH="1" flipV="1" rot="5400000">
              <a:off x="5484240" y="1899720"/>
              <a:ext cx="512640" cy="150552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16" name="_s4107"/>
            <p:cNvSpPr/>
            <p:nvPr/>
          </p:nvSpPr>
          <p:spPr>
            <a:xfrm>
              <a:off x="5848560" y="137160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eaeaea"/>
                  </a:solidFill>
                  <a:latin typeface="Arial"/>
                </a:rPr>
                <a:t>Ce presupune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eaeaea"/>
                  </a:solidFill>
                  <a:latin typeface="Arial"/>
                </a:rPr>
                <a:t>o CONVERSATIE?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_s4108"/>
            <p:cNvSpPr/>
            <p:nvPr/>
          </p:nvSpPr>
          <p:spPr>
            <a:xfrm>
              <a:off x="434340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ATENTIE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LA CE SPUN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CEILALTI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4109"/>
            <p:cNvSpPr/>
            <p:nvPr/>
          </p:nvSpPr>
          <p:spPr>
            <a:xfrm>
              <a:off x="584856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RESPECT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PENTRU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INTERLOCUTORI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_s4110"/>
            <p:cNvSpPr/>
            <p:nvPr/>
          </p:nvSpPr>
          <p:spPr>
            <a:xfrm>
              <a:off x="7353720" y="2908440"/>
              <a:ext cx="1289880" cy="102456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CORECTITUDINE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Arial"/>
                </a:rPr>
                <a:t>IN EXPRIMARE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e sunt situatiile in care este necesar dialogul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suntem cu famil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ne intalnim cu prietenii sau colegi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d raspundem la lect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 se poate dialoga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as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 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 scoal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 inte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 pi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magaz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librar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24560" y="2057400"/>
            <a:ext cx="451944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M SE REALIZEAZA UN DIALOG EFICI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 respecta opinia celuila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m rabdare sa termine interlocutorul ce are de spu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losim un limbaj adecvat situatiei de comunicar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scris avem grija la punctuatie si ortografi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icati cateva situatii in care ati folosit dialogul ineficient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r-o discutie cu mama care nu voia sa ma asculte cand ii explicam de ce vreau sa-mi petrec mai mult timp la calcul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d am incercat sa ii spun unui profesor motivul pentru care nu mi-am facut tem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 vrut sa discut cu prietena mea cea mai buna despre alti coleg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d conversam pe messenger si s-a luat curentu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 sunt cauzele ce pot duce la un dialog inefici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psa atentie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ararea interlocutorulu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ptul ca nu vrea sa asculte ce am de spu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na</cp:lastModifiedBy>
  <dcterms:modified xsi:type="dcterms:W3CDTF">2010-05-25T20:3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